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E0E5-CC89-439F-A070-DC8AB0A279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9CE2-6959-485C-92EB-09BF677B683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7754-B1B1-4C2F-A518-3612EB1360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A404-40D3-439B-8BD8-BD02D7C302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0A70-BF26-4976-BEE0-4BF147A2CE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76C3-DBB6-43AB-881C-E44A6B61DB2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0701-9E24-4515-8D57-1593C64E48A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0FC1-FEF6-4437-A007-F7F91DE718E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0F18-FDE3-460E-8701-09C8A8CA3C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E6B2-FFEE-46BC-B80C-EDBED3C1A9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1416-51AA-4C0C-B3B2-34AA1668269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6584-8390-48D0-A29B-E29298EC1A3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9164-CD29-41E0-A5E1-E4EC64D2B80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8A9-E62C-4D36-85DC-14F7F3DB3D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C675-E52E-439A-B248-FF2E16E1A3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BD17-53B4-4E6C-8A24-5E356883338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513E-960B-4A15-B380-76E2820B13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0A95-2C76-4C85-AEE7-D6FBEABACA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C7FD-1045-4EE6-ADF6-274BE2B8E3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5B4C-0F0F-4399-A09F-108A1AEF46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93EC-CFA5-4ED3-A030-C062226962C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E44A-7DA7-44C1-9CDC-482ADA0C70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61AB-4A75-43D5-9060-C8C6A7A61A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A597-7FBE-4E62-9178-BB3007E441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6752-E097-405F-88E0-E8B1A166FD4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A3F-9DD5-4A7B-939A-3AE933E7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22B-958C-44B0-98D4-FA4F4414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E75-0770-49F7-874E-63AF8018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B7B-6C63-4D2D-AEC4-78E8F627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19FC-B954-4EDE-9A02-56C896F9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7B32-07F9-43AF-A8D4-879C682C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974B-8694-4252-A084-4F56E3EF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1609-4CBE-4A3D-AA75-4609F665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49AF-8CE8-4DD3-9746-D0B18C90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6F37-0F15-41C4-A985-3FBB8658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A60F-0CB3-4513-B31B-8BB35EAB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16E-453D-486B-91F7-19AD9B5B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47E8-D3EC-4F0E-AED9-ED868288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37E6-013C-4C6C-9F08-0D939DFF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F7BE-DB93-42BB-B8F8-D2BC5916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2A3D-E826-4F43-9E81-04BDD9AC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5715-9D3E-4615-9F8A-91745093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DE55-71FE-4CE4-A87F-FFF96F46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2FA2-B1E8-4083-84AA-5EE5F296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440D-E29D-402F-B147-6163AB60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9BF0-4529-4BCF-B7F5-294CF797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1A726-5A33-4506-BB45-04CF8EC4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6B0-7A72-4A5C-B327-6691D826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E3463-3267-4FE2-A368-E2508402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D322D-B9F9-4C43-8C18-A325C067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B48B-F02D-4510-A99D-0BF01F3F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51494-FF84-4F99-ABCE-9375D314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8A7D4-FD12-40FE-A683-C2DE24EE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D1343-3BFA-46B8-AE7F-93AC5A3D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13A5E-C645-4CC2-A7E6-18714BF7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44F71-4F00-4DA7-9B3F-771A7ED9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C0008-4A13-4F50-9D0D-A8AA5766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54A5C-4340-48D9-B4E8-FE3676B6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2C2-524D-41F1-A7BB-2C8FBFFE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E6BB-AB74-4087-8F69-027E8DAE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BF54-1EE4-4BEF-A9FC-6E96BBCD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9C2A-E754-41AE-8912-1A1A283B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E4970-683F-4547-A3DD-03D3AAC7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6220-8ED5-45FD-A383-923A21BB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1FC5E-9607-4C15-A8BA-0C202CCD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92A6-B2A4-4ED1-A782-60D60F02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BC89-043F-4BED-8E64-A76D5696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9CF1F-7534-46EC-95D1-81958E2B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E58BC-EBB9-4623-9641-3C149B26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756-327A-46F6-AE63-7C91CE13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38D41-6A79-4908-93B3-65BB5C7D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7579-6897-4896-BDCE-E6DECF08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62429-796E-46B8-8F2D-F251C0CF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0B3EA-1750-4EED-BF3B-13662544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C7C21-D97B-4A6A-A431-0FE6713F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33B67-857C-4B53-B914-AA7BA977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81194-9225-4D74-B083-89D2EC2F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47656-6B10-40CA-BE7A-38A3D170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19418-24DE-40C3-98C9-AA40EA99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4E541-8012-4EE5-AF83-8D46CA9B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698-22B0-4859-AC29-FDF09326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066A4-C686-427C-BAE7-B69F6F46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B5519-CDFA-4DB1-B1CD-8CDAB97A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70E84-3EF6-43F4-9853-50B0F1F9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30EB9-E653-433D-9624-CD2BBDBA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40FC4-9434-4F60-B0EC-02ABC8E4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0BBAA-3287-4207-8EAF-04A4DFC4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1A3D5-1A84-4503-8B51-7FEE9B40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8284D-8BD5-48D8-BE67-5DC0AACD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D94AB-0C79-4361-9AAA-A8802819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43723-6488-4CC4-B1DF-F57DCBFB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FC9-1195-42EC-9A9A-BF0CFBA6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0AFC8-7329-4EF0-AB4E-064FE32D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BF6CB-FE9C-47F1-A247-430354A8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A930D-CE63-440A-8352-ECD5DFC1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81884-9058-4ECB-AB45-7EA33412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69574-172F-4B35-92A1-6BF3EC1B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660DF-F74A-4D96-9A0D-EEE34802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9E086-9E2E-4D45-9582-2981F0B3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DD8EF-192D-4D8C-95AB-BBE936D8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61D18-53EA-4F65-BA87-73A3A1A4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276BD-8FA7-40EF-A22E-0AF4E9D5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9C8-FB21-41CD-A46C-7073002B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5F48C-CA02-4380-91E3-769D961B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93803-5D30-430F-B898-AB4D15B5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A469C-C81E-44BD-81B4-874BB227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F7212-D8CF-473C-8228-4A8CF0B2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5F57A-98F2-4F0F-9089-3BEF6489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333-1E31-45AB-AD61-C7F122B1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94EA-7CF0-4063-9753-FB841C6E25E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1670-10A7-4982-9878-558AD26FF03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A400-5ACD-4285-98C7-FC15FFA3415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кутник з одним вирізаним округленим кут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кутний трикут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іліні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іліні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2A83-7739-4DB6-B339-562CE33E534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0F2A-1EBB-4712-B92D-F684A656E8D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EADA-10CA-434C-86E0-11120172E60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0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82FE-F502-4305-ADCF-297ECC6E97A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ww.unitex.com.ua/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9.png"/><Relationship Id="rId4" Type="http://schemas.openxmlformats.org/officeDocument/2006/relationships/hyperlink" Target="http://www.unitex.com.ua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hyperlink" Target="http://www.unitex.com.ua/" TargetMode="Externa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hyperlink" Target="http://www.unitex.com.ua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738360" y="500040"/>
            <a:ext cx="7918200" cy="174312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3" descr=""/>
          <p:cNvPicPr/>
          <p:nvPr/>
        </p:nvPicPr>
        <p:blipFill>
          <a:blip r:embed="rId2"/>
          <a:stretch/>
        </p:blipFill>
        <p:spPr>
          <a:xfrm>
            <a:off x="-133200" y="3524400"/>
            <a:ext cx="5675040" cy="255240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9" descr="peopl.png"/>
          <p:cNvPicPr/>
          <p:nvPr/>
        </p:nvPicPr>
        <p:blipFill>
          <a:blip r:embed="rId3"/>
          <a:srcRect l="12295" t="8750" r="0" b="13751"/>
          <a:stretch/>
        </p:blipFill>
        <p:spPr>
          <a:xfrm>
            <a:off x="5067360" y="2071800"/>
            <a:ext cx="4076640" cy="44290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4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Рисунок 5" descr="u_logo copy.png"/>
          <p:cNvPicPr/>
          <p:nvPr/>
        </p:nvPicPr>
        <p:blipFill>
          <a:blip r:embed="rId5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4" descr=""/>
          <p:cNvPicPr/>
          <p:nvPr/>
        </p:nvPicPr>
        <p:blipFill>
          <a:blip r:embed="rId1"/>
          <a:stretch/>
        </p:blipFill>
        <p:spPr>
          <a:xfrm>
            <a:off x="396720" y="457200"/>
            <a:ext cx="8114040" cy="10000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4" name="Picture 14" descr=""/>
          <p:cNvPicPr/>
          <p:nvPr/>
        </p:nvPicPr>
        <p:blipFill>
          <a:blip r:embed="rId2"/>
          <a:stretch/>
        </p:blipFill>
        <p:spPr>
          <a:xfrm>
            <a:off x="571680" y="1428840"/>
            <a:ext cx="8072280" cy="478620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5" descr="u_logo copy.png"/>
          <p:cNvPicPr/>
          <p:nvPr/>
        </p:nvPicPr>
        <p:blipFill>
          <a:blip r:embed="rId3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4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428760" y="1262160"/>
            <a:ext cx="7691400" cy="5095800"/>
          </a:xfrm>
          <a:prstGeom prst="rect">
            <a:avLst/>
          </a:prstGeom>
          <a:ln w="0">
            <a:noFill/>
          </a:ln>
        </p:spPr>
      </p:pic>
      <p:pic>
        <p:nvPicPr>
          <p:cNvPr id="398" name="Rectangle 3" descr=""/>
          <p:cNvPicPr/>
          <p:nvPr/>
        </p:nvPicPr>
        <p:blipFill>
          <a:blip r:embed="rId2"/>
          <a:stretch/>
        </p:blipFill>
        <p:spPr>
          <a:xfrm>
            <a:off x="353880" y="420840"/>
            <a:ext cx="8582040" cy="927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2571840" y="1762200"/>
            <a:ext cx="6172200" cy="4572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"/>
          <a:stretch/>
        </p:blipFill>
        <p:spPr>
          <a:xfrm>
            <a:off x="4857840" y="1833480"/>
            <a:ext cx="3019320" cy="42674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"/>
          <p:cNvPicPr/>
          <p:nvPr/>
        </p:nvPicPr>
        <p:blipFill>
          <a:blip r:embed="rId5"/>
          <a:stretch/>
        </p:blipFill>
        <p:spPr>
          <a:xfrm>
            <a:off x="571680" y="4191120"/>
            <a:ext cx="8153280" cy="21142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7" descr="u_logo copy.png"/>
          <p:cNvPicPr/>
          <p:nvPr/>
        </p:nvPicPr>
        <p:blipFill>
          <a:blip r:embed="rId6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91960" y="457200"/>
            <a:ext cx="8352000" cy="21938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642960" y="1857240"/>
            <a:ext cx="7772400" cy="3571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352080" indent="-182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втоматичне формування наказів та іншої документації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2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2080" indent="-182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и формуванні розпорядчої документації зміни по базі даних вносяться автоматично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2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2080" indent="-18216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безпечується недопущення помилок користуваче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через систему блокування можливостей здійснення нелогічних операцій та попередження користувача про допущені помилки, через які неможливо здійснити ту чи іншу операцію.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7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26960" y="633240"/>
            <a:ext cx="8083800" cy="13114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800280" y="228600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блікова кадрова документаці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озпорядча документаці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овідково-інформаційна документаці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вітова документаці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Інша документаці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1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317520" y="401760"/>
            <a:ext cx="8193240" cy="11779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530280" y="150012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55680" indent="-184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собова картка за формою П2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окумент, у якому ведуться залишки щорічних і додаткових до щорічних відпусток (різниця між наданими днями і днями, що належать за законом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окумент, у якому ведеться облік стажу працівникі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писи про нагородження, атестацію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овідка з місця робо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 для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блік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пеціальності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за дипломо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окумент в якому ведеться інформація про навчання кадрів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Листки непрацездатності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окумент ведення обліку відряджень працівни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артка обліку ліквідаторів (постраждалих) аварії на ЧАЕС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5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25360" y="469800"/>
            <a:ext cx="8137440" cy="12495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728640" y="157140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каз про прийом на роботу за формою П1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каз про переведення на іншу роботу за формою П5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каз про звільнення з роботи за формою П8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каз про надання відпустки за формою П6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каз про відкликання з відпуст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каз про суміщення посад на одному підприємстві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каз про роботу у вихідні дні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овільний наказ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каз про оголошення (зняття) доган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каз про продовження (розірвання) трудової угод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ведення штатних одиниць у штатний розпис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иведення штатних одиниць зі штатного розпис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аз про в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ядженн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аз про зміну режиму робо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каз про направлення на навчанн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каз про встановлення (зняття) надбав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каз про зміну прізвищ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9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208080" y="433440"/>
            <a:ext cx="8143920" cy="17301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800280" y="207180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Довідники населених пунктів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Види відпусток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Категорії військового звання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Склад військ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Військові групи обліку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Групи військового звання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Вид переведень на іншу роботу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Класифікатор професій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Напрямки спеціальностей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Категорії персоналу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Типи прийняття на роботу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Спеціальності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3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8080" y="469800"/>
            <a:ext cx="8143920" cy="1395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728640" y="178560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55680" indent="-1843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віт про наявність вільних робочих місць (Форма 3-ПН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віт про звільнення працівників (Форма 4-ПН 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віт про зайнятість та працевлаштування інвалідів (Форма 10-ПІ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віт про чисельність працівників, їх якісний склад та професійне навчання ( Форма 6-ПВ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віт про надання відпустки ( Форма П-7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віт з використання робочого часу ( Форма П-12;П-13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7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225360" y="517680"/>
            <a:ext cx="8137440" cy="15969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530280" y="207180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66760" indent="-954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Штатний розкла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відка про наявність вільних робочих місц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говір про повну матеріальну відповідальніст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говір про колективну матеріальну відповідальніст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відка з місця робо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свідченн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кумент структури та штатної чисельності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1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4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253360" cy="12128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35" name="Group 18"/>
          <p:cNvGrpSpPr/>
          <p:nvPr/>
        </p:nvGrpSpPr>
        <p:grpSpPr>
          <a:xfrm>
            <a:off x="457200" y="1285920"/>
            <a:ext cx="8362800" cy="5024520"/>
            <a:chOff x="457200" y="1285920"/>
            <a:chExt cx="8362800" cy="5024520"/>
          </a:xfrm>
        </p:grpSpPr>
        <p:pic>
          <p:nvPicPr>
            <p:cNvPr id="436" name="Picture 14" descr=""/>
            <p:cNvPicPr/>
            <p:nvPr/>
          </p:nvPicPr>
          <p:blipFill>
            <a:blip r:embed="rId2"/>
            <a:stretch/>
          </p:blipFill>
          <p:spPr>
            <a:xfrm>
              <a:off x="457200" y="1285920"/>
              <a:ext cx="8362800" cy="502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17" descr=""/>
            <p:cNvPicPr/>
            <p:nvPr/>
          </p:nvPicPr>
          <p:blipFill>
            <a:blip r:embed="rId3"/>
            <a:stretch/>
          </p:blipFill>
          <p:spPr>
            <a:xfrm>
              <a:off x="468360" y="3269520"/>
              <a:ext cx="1727280" cy="171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8" name="Рисунок 6" descr="u_logo copy.png"/>
          <p:cNvPicPr/>
          <p:nvPr/>
        </p:nvPicPr>
        <p:blipFill>
          <a:blip r:embed="rId4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62080" y="407880"/>
            <a:ext cx="8656560" cy="18907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942840" y="2571840"/>
            <a:ext cx="7629840" cy="292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це Ваш незамінний помічник в управлінні людськими ресурсами на підприємстві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допоможе контролювати документообіг та вести діловодство згідно з чинним законодавством Україн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ограмний продукт, що забезпечує гнучкі налаштування під потреби кожного підприємст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9" name="Рисунок 6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6" descr=""/>
          <p:cNvPicPr/>
          <p:nvPr/>
        </p:nvPicPr>
        <p:blipFill>
          <a:blip r:embed="rId1"/>
          <a:stretch/>
        </p:blipFill>
        <p:spPr>
          <a:xfrm>
            <a:off x="208080" y="450720"/>
            <a:ext cx="8296200" cy="17384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530280" y="228600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1440" indent="-1731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ланування відпусток працівників підприємств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731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формування графіків відпусток по структурних підрозділах та по підприємству в цілому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731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втоматизація розрахунків залишку відпускних днів, що належать працівнику згідно з чинним законодавством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731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втоматичне формування звіту по відпустках за формою П-7 на дату запиту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731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втоматичне формування наказу (розпорядження) за формою П-6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731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втоматичне відображення інформації за наданими відпустками після проведення наказу ”про надання відпустки”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2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4" descr=""/>
          <p:cNvPicPr/>
          <p:nvPr/>
        </p:nvPicPr>
        <p:blipFill>
          <a:blip r:embed="rId1"/>
          <a:stretch/>
        </p:blipFill>
        <p:spPr>
          <a:xfrm>
            <a:off x="500040" y="384120"/>
            <a:ext cx="8236080" cy="140832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6" name="Picture 13" descr=""/>
          <p:cNvPicPr/>
          <p:nvPr/>
        </p:nvPicPr>
        <p:blipFill>
          <a:blip r:embed="rId2"/>
          <a:stretch/>
        </p:blipFill>
        <p:spPr>
          <a:xfrm>
            <a:off x="642960" y="1252440"/>
            <a:ext cx="8005680" cy="496260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4" descr="u_logo copy.png"/>
          <p:cNvPicPr/>
          <p:nvPr/>
        </p:nvPicPr>
        <p:blipFill>
          <a:blip r:embed="rId3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237960" y="500040"/>
            <a:ext cx="8643960" cy="162072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0280" y="207144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1440" indent="-1000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едення обліку відпрацьованого часу працівниками підприємства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000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втоматизація при формуванні табелю відпрацьованого часу по структурним підрозділам підприємства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000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втоматизація формування звітності з використання робочого часу за формами П-12, П-13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000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ідображення інформації з обліку відпрацьованого часу по структурних підрозділах підприємства на певний період, встановлений за запитом користувача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000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втоматичне внесення записів в табель на період непрацездатності на основі інформації внесеної до картки листків непрацездатності, а також на термін перебування працівника у відпустці та при зміні режиму роботи на основі створення відповідних наказів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000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втоматизація заповнення полів табелю значеннями обраними користувачем і встановленими на визначений період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51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4" descr=""/>
          <p:cNvPicPr/>
          <p:nvPr/>
        </p:nvPicPr>
        <p:blipFill>
          <a:blip r:embed="rId1"/>
          <a:stretch/>
        </p:blipFill>
        <p:spPr>
          <a:xfrm>
            <a:off x="457200" y="396720"/>
            <a:ext cx="8193240" cy="118296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55" name="Picture 12" descr=""/>
          <p:cNvPicPr/>
          <p:nvPr/>
        </p:nvPicPr>
        <p:blipFill>
          <a:blip r:embed="rId2"/>
          <a:stretch/>
        </p:blipFill>
        <p:spPr>
          <a:xfrm>
            <a:off x="642960" y="1285920"/>
            <a:ext cx="8097840" cy="508932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5" descr="u_logo copy.png"/>
          <p:cNvPicPr/>
          <p:nvPr/>
        </p:nvPicPr>
        <p:blipFill>
          <a:blip r:embed="rId3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304920" y="450720"/>
            <a:ext cx="8113680" cy="18846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500040" y="228564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marL="178200" indent="-9576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едення бази даних по навчальним центрам з якими співпрацює організація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178200" indent="-9576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овідкова інформація за учбовими центрами (типи курсів, що проводяться в даному учбовому центрі, вартість курсів і т.п.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178200" indent="-9576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формуванн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рафі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вчан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ацівників підприємства (структурного підрозділу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178200" indent="-9576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едення обліку проведених навчальних курсів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178200" indent="-9576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едення облік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вчальних курсів відвіданих слухачем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178200" indent="-9576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еєстрація інформації оцінки викладачем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ухача та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лухачем прослухано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урсу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178200" indent="-9576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несення в базу даних плану-графіку проведення курсів учбових центрів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178200" indent="-9576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формування звітності з навчання персоналу відповідно до запиту користувач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60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4" descr=""/>
          <p:cNvPicPr/>
          <p:nvPr/>
        </p:nvPicPr>
        <p:blipFill>
          <a:blip r:embed="rId1"/>
          <a:stretch/>
        </p:blipFill>
        <p:spPr>
          <a:xfrm>
            <a:off x="317520" y="365040"/>
            <a:ext cx="8405640" cy="15732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64" name="Group 20"/>
          <p:cNvGrpSpPr/>
          <p:nvPr/>
        </p:nvGrpSpPr>
        <p:grpSpPr>
          <a:xfrm>
            <a:off x="457200" y="1268280"/>
            <a:ext cx="8329680" cy="5160960"/>
            <a:chOff x="457200" y="1268280"/>
            <a:chExt cx="8329680" cy="5160960"/>
          </a:xfrm>
        </p:grpSpPr>
        <p:pic>
          <p:nvPicPr>
            <p:cNvPr id="465" name="Picture 16" descr=""/>
            <p:cNvPicPr/>
            <p:nvPr/>
          </p:nvPicPr>
          <p:blipFill>
            <a:blip r:embed="rId2"/>
            <a:stretch/>
          </p:blipFill>
          <p:spPr>
            <a:xfrm>
              <a:off x="457200" y="1268280"/>
              <a:ext cx="8329680" cy="516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6" name="Group 19"/>
            <p:cNvGrpSpPr/>
            <p:nvPr/>
          </p:nvGrpSpPr>
          <p:grpSpPr>
            <a:xfrm>
              <a:off x="3336480" y="2701440"/>
              <a:ext cx="5379120" cy="3224880"/>
              <a:chOff x="3336480" y="2701440"/>
              <a:chExt cx="5379120" cy="3224880"/>
            </a:xfrm>
          </p:grpSpPr>
          <p:pic>
            <p:nvPicPr>
              <p:cNvPr id="467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336480" y="2701440"/>
                <a:ext cx="5379120" cy="322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8" name="Picture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214120" y="2701440"/>
                <a:ext cx="474120" cy="141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69" name="Рисунок 10" descr="u_logo copy.png"/>
          <p:cNvPicPr/>
          <p:nvPr/>
        </p:nvPicPr>
        <p:blipFill>
          <a:blip r:embed="rId5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158760" y="433440"/>
            <a:ext cx="8193240" cy="1359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728640" y="192888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 програмному забезпеченні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HRM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еалізовано гнучку підсистему надання прав доступу користувачу через систему ролей. Розподіл ролей здійснюється для обмеження доступу користувачів до підсистем програми у відповідності з виконуваними користувачем функціям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ористувацьким інтерфейсом для надання прав доступу (ролей) користувачам П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HRM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є П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eh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Manager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UM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). Перелік існуючих в П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HRM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ролей та їх опис наведено у таблиці 1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73" name="Рисунок 5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Rectangle 152" descr=""/>
          <p:cNvPicPr/>
          <p:nvPr/>
        </p:nvPicPr>
        <p:blipFill>
          <a:blip r:embed="rId1"/>
          <a:stretch/>
        </p:blipFill>
        <p:spPr>
          <a:xfrm>
            <a:off x="853920" y="244440"/>
            <a:ext cx="7991640" cy="5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357120" y="785880"/>
          <a:ext cx="8572680" cy="5500800"/>
        </p:xfrm>
        <a:graphic>
          <a:graphicData uri="http://schemas.openxmlformats.org/drawingml/2006/table">
            <a:tbl>
              <a:tblPr/>
              <a:tblGrid>
                <a:gridCol w="357120"/>
                <a:gridCol w="3000600"/>
                <a:gridCol w="521496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зва рол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ис рол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гальна роль для роботи з програмою (обов'язков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надає первинні права доступу і повинна призначатися кожному користувачу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для роботи з кадр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надає права для роботи з особовими картками працівників, картками пенсіонерів, інвалідів, чорнобильців та права для роботи з відпусткам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для роботи з наказ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надає права для роботи з наказами на підприємстві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для роботи з табеле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надає права для роботи з підсистемою обліку використання робочого часу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для роботи із штатним розклад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надає права для роботи із структурою підприємства та штатним розкладом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для роботи з довідник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надає права для роботи з нормативними довідникам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для отримання повідомлень про кінець випробувального термін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визначає чи буде отримувати користувач попередження про закінчення випробувального терміну у працівник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для роботи з посадовими оклад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надає права для перегляду та редагування посадових окладів у структурі підприємства та перегляду окладів працівників у картках працівникі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для відкриття закритого облікового періоду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ль надає права для повторного відкриття закритого табел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7" name="Рисунок 4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1" descr=""/>
          <p:cNvPicPr/>
          <p:nvPr/>
        </p:nvPicPr>
        <p:blipFill>
          <a:blip r:embed="rId1"/>
          <a:stretch/>
        </p:blipFill>
        <p:spPr>
          <a:xfrm>
            <a:off x="334800" y="792000"/>
            <a:ext cx="8448840" cy="1951200"/>
          </a:xfrm>
          <a:prstGeom prst="rect">
            <a:avLst/>
          </a:prstGeom>
          <a:ln w="0">
            <a:noFill/>
          </a:ln>
        </p:spPr>
      </p:pic>
      <p:pic>
        <p:nvPicPr>
          <p:cNvPr id="480" name="Місце для вмісту 3" descr=""/>
          <p:cNvPicPr/>
          <p:nvPr/>
        </p:nvPicPr>
        <p:blipFill>
          <a:blip r:embed="rId2"/>
          <a:stretch/>
        </p:blipFill>
        <p:spPr>
          <a:xfrm>
            <a:off x="334800" y="4614840"/>
            <a:ext cx="8382240" cy="16891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" descr="logo1 copy.png"/>
          <p:cNvPicPr/>
          <p:nvPr/>
        </p:nvPicPr>
        <p:blipFill>
          <a:blip r:embed="rId3"/>
          <a:stretch/>
        </p:blipFill>
        <p:spPr>
          <a:xfrm>
            <a:off x="2357280" y="2928960"/>
            <a:ext cx="43308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341280" y="438120"/>
            <a:ext cx="8223120" cy="11286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571680" y="2286000"/>
            <a:ext cx="7772400" cy="258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Uniteh HRM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ndard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призначена для підприємства, що складається з однієї юридичної особ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Uniteh HRM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erprise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dition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 призначена для підприємства, яке складається з декількох юридичних осіб з єдиною системою управління та звітності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3" name="Рисунок 6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334800" y="444600"/>
            <a:ext cx="8242560" cy="1128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514440" y="164304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формування, обробка та зберігання кадрової документації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можливість пошуку документів (система фільтр-браузер-картка) та вивантаження результатів вибірки в Excel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формування статистичних звітів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едення штатного розкладу у відповідності до ієрархічної структури підприємств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блік використання робочого часу - табельний облік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блік та планування відпусток на підприємстві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блік та планування навчання на підприємстві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истема закритих для редагування та відкритих довідників;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дміністрування прав доступу користувачів до підсистем програми та інформації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7" name="Рисунок 5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61" descr=""/>
          <p:cNvPicPr/>
          <p:nvPr/>
        </p:nvPicPr>
        <p:blipFill>
          <a:blip r:embed="rId1"/>
          <a:stretch/>
        </p:blipFill>
        <p:spPr>
          <a:xfrm>
            <a:off x="781200" y="401760"/>
            <a:ext cx="7783200" cy="1128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983880" y="1714320"/>
            <a:ext cx="765972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3241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Програма містить 6 взаємопов'язани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модулі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- Підприєм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- Карт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- Докумен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- Відпуст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- Табел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- Управління навчанням персонал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1" name="Рисунок 7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706320" y="304920"/>
            <a:ext cx="77853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5" descr="struct_ukr.png"/>
          <p:cNvPicPr/>
          <p:nvPr/>
        </p:nvPicPr>
        <p:blipFill>
          <a:blip r:embed="rId2"/>
          <a:stretch/>
        </p:blipFill>
        <p:spPr>
          <a:xfrm>
            <a:off x="214200" y="1357200"/>
            <a:ext cx="8783640" cy="47674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6" descr="u_logo copy.png"/>
          <p:cNvPicPr/>
          <p:nvPr/>
        </p:nvPicPr>
        <p:blipFill>
          <a:blip r:embed="rId3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4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152280" y="420840"/>
            <a:ext cx="8418600" cy="14144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530280" y="192852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5400" algn="just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формування організаційної структури підприємства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картки структурних підрозділів;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картки посад відповідно до класифікатора професій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автоматизація ведення штатного розкладу у відповідності до ієрархічної структури підприємства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формування довідкової інформації з вільних вакансій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гнучкість при формуванні організаційної структури підприємства (забезпечена можливість переміщувати підрозділи та посади у структурі підприємства.)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створення наказів щодо внесення змін в штатний розклад підприємства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можливість ведення кадрового резерву працівників, що можуть займати визначену посаду ( вкладка кадровий резерв )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9" name="Рисунок 6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69800" y="384120"/>
            <a:ext cx="810756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83" name="Group 10"/>
          <p:cNvGrpSpPr/>
          <p:nvPr/>
        </p:nvGrpSpPr>
        <p:grpSpPr>
          <a:xfrm>
            <a:off x="395280" y="1357200"/>
            <a:ext cx="8248320" cy="4857840"/>
            <a:chOff x="395280" y="1357200"/>
            <a:chExt cx="8248320" cy="4857840"/>
          </a:xfrm>
        </p:grpSpPr>
        <p:pic>
          <p:nvPicPr>
            <p:cNvPr id="384" name="Picture 8" descr=""/>
            <p:cNvPicPr/>
            <p:nvPr/>
          </p:nvPicPr>
          <p:blipFill>
            <a:blip r:embed="rId2"/>
            <a:stretch/>
          </p:blipFill>
          <p:spPr>
            <a:xfrm>
              <a:off x="395280" y="1357200"/>
              <a:ext cx="8248320" cy="48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9" descr=""/>
            <p:cNvPicPr/>
            <p:nvPr/>
          </p:nvPicPr>
          <p:blipFill>
            <a:blip r:embed="rId3"/>
            <a:stretch/>
          </p:blipFill>
          <p:spPr>
            <a:xfrm>
              <a:off x="3437280" y="3818880"/>
              <a:ext cx="1516320" cy="39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6" name="Рисунок 6" descr="u_logo copy.png"/>
          <p:cNvPicPr/>
          <p:nvPr/>
        </p:nvPicPr>
        <p:blipFill>
          <a:blip r:embed="rId4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5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52280" y="469800"/>
            <a:ext cx="8137800" cy="1683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713880" y="1857240"/>
            <a:ext cx="7572600" cy="45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едення карток персоніфікованого обліку працівників підприємства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едення карток інвалідів, пенсіонерів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едення карток ліквідаторів та постраждалих від аварії на ЧАЕС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едення карток працівників, що працюють за договорам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формування електронного варіанту трудових книжок працівників підприємства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втоматизація розрахунків трудового стажу працівників підприємства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ідображення інформації стосовно призначень працівника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формація про відрядження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формування листків непрацездатності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жливість оперативного пошуку інформації через систему фільтр-браузер( вибір і формування списку співробітників за будь-яким параметром особової картки) та вивантаження результатів вибірки 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0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9:20:01Z</dcterms:created>
  <dc:creator>PASHA</dc:creator>
  <dc:description/>
  <dc:language>en-US</dc:language>
  <cp:lastModifiedBy>Test</cp:lastModifiedBy>
  <dcterms:modified xsi:type="dcterms:W3CDTF">2009-07-01T14:35:35Z</dcterms:modified>
  <cp:revision>243</cp:revision>
  <dc:subject/>
  <dc:title> UNITEX HUMAN RESOURCE MANAGEMENT</dc:title>
</cp:coreProperties>
</file>